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76C8EB-1DFE-453D-A733-AC464AF0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7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l-GR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779299-0177-4A49-98C9-5FD53F239708}" type="slidenum">
              <a:rPr b="0" lang="el-GR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* Both of the evaluation components above present mean scores for all the Data Elements of the CAN-MDS. After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of these evaluations, further modifications to the CAN-MDS took place with the aim of improving of the MDS in accor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with the evaluation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** An evaluation of the qualitative aspects of the CAN-MDS was made by the members of the Consortium representing 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countries (BG, DE, FR, GR, IT, RO, CH). ONLY data elements that are considered as “ethical” were included in the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*** An evaluation of the feasibility aspects of the CAN-MDS was made by an international group of experts in the fiel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data collection on child abuse and neglect; members of this international group were from 4 continents (Europe, As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Oceania, America) and 11 countries (USA, Canada, Australia, Saudi Arabia, Turkey, Israel, Greece, Italy, Belgium, U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Ireland) and the Directorate-General Justice, Unit C.1: Fundamental rights and rights of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8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l-GR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66681B-3EDC-4867-83FD-52C4942BA9F4}" type="slidenum">
              <a:rPr b="0" lang="el-GR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A98-AA3D-4A16-B1B4-8A49AB3C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640" y="397008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7E9-29E6-4718-924B-7431492B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640" y="397008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97008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1AF-963F-4C9F-A2F8-A92D2505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1264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1264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640" y="397008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397008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97008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AC9-6738-429C-B388-1B17CD94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1640" y="1412640"/>
            <a:ext cx="8640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8640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640" y="327960"/>
            <a:ext cx="86407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1640" y="397008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640" y="1412640"/>
            <a:ext cx="8640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AE4-00F2-4724-AD78-162044B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9280" y="397008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1640" y="397008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1640" y="397008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1640" y="397008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9280" y="397008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040" y="141264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0" y="141264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1640" y="397008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040" y="397008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4800" y="397008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86407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9CB-8B2E-4168-A9BE-E023711C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BF0-B0BD-46A8-BCA2-9E21131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A3B-E267-4C84-9BCC-1A4536BD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1640" y="327960"/>
            <a:ext cx="864072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DA9-8455-4E55-82D1-875E4D8C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640" y="397008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B87-5E4E-4A46-82D3-67F0740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97008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6BC-E96B-4FDF-8E29-B5BF0DB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64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640" y="397008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24F-9290-4FBD-9E41-D68566B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l-G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l-GR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l-GR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072666-C7BE-452E-860D-ECA53409A8DC}" type="slidenum">
              <a:rPr b="0" lang="el-GR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l-GR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l-GR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l-GR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l-GR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l-GR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l-GR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l-GR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Click to edit Master title style</a:t>
            </a:r>
            <a:endParaRPr b="0" lang="el-GR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1640" y="1412640"/>
            <a:ext cx="8640720" cy="48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14000"/>
              </a:lnSpc>
              <a:spcBef>
                <a:spcPts val="360"/>
              </a:spcBef>
              <a:buClr>
                <a:srgbClr val="4f81bd"/>
              </a:buClr>
              <a:buSzPct val="80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168120">
              <a:lnSpc>
                <a:spcPct val="114000"/>
              </a:lnSpc>
              <a:spcBef>
                <a:spcPts val="360"/>
              </a:spcBef>
              <a:buClr>
                <a:srgbClr val="17375e"/>
              </a:buClr>
              <a:buSzPct val="80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  <a:p>
            <a:pPr lvl="2" marL="541440" indent="-182520">
              <a:lnSpc>
                <a:spcPct val="114000"/>
              </a:lnSpc>
              <a:spcBef>
                <a:spcPts val="360"/>
              </a:spcBef>
              <a:buClr>
                <a:srgbClr val="604a7b"/>
              </a:buClr>
              <a:buSzPct val="80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  <a:p>
            <a:pPr lvl="3" marL="716040" indent="-174600">
              <a:lnSpc>
                <a:spcPct val="114000"/>
              </a:lnSpc>
              <a:spcBef>
                <a:spcPts val="360"/>
              </a:spcBef>
              <a:buClr>
                <a:srgbClr val="31859c"/>
              </a:buClr>
              <a:buSzPct val="80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  <a:p>
            <a:pPr lvl="4" marL="898560" indent="-182520">
              <a:lnSpc>
                <a:spcPct val="114000"/>
              </a:lnSpc>
              <a:spcBef>
                <a:spcPts val="360"/>
              </a:spcBef>
              <a:buClr>
                <a:srgbClr val="e46c0a"/>
              </a:buClr>
              <a:buSzPct val="80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439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770080" y="6311160"/>
            <a:ext cx="3131640" cy="546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827640" y="6296760"/>
            <a:ext cx="4824000" cy="570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50" spc="-1" strike="noStrike">
                <a:solidFill>
                  <a:srgbClr val="595959"/>
                </a:solidFill>
                <a:latin typeface="Agency FB"/>
                <a:ea typeface="Times New Roman"/>
              </a:rPr>
              <a:t>Project “Coordinated Response to Child Abuse &amp; Neglect via Minimum Data Set” [JUST/2012/DAP/AG/3250]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050" spc="-1" strike="noStrike">
                <a:solidFill>
                  <a:schemeClr val="accent6">
                    <a:lumMod val="75000"/>
                  </a:schemeClr>
                </a:solidFill>
                <a:latin typeface="Agency FB"/>
                <a:ea typeface="Times New Roman"/>
              </a:rPr>
              <a:t>CAN-MDS Core Group of Operators - WORKSHOP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Connector 10"/>
          <p:cNvCxnSpPr/>
          <p:nvPr/>
        </p:nvCxnSpPr>
        <p:spPr>
          <a:xfrm>
            <a:off x="0" y="6352560"/>
            <a:ext cx="91443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47" name="Picture 20" descr=""/>
          <p:cNvPicPr/>
          <p:nvPr/>
        </p:nvPicPr>
        <p:blipFill>
          <a:blip r:embed="rId3"/>
          <a:stretch/>
        </p:blipFill>
        <p:spPr>
          <a:xfrm>
            <a:off x="28440" y="6309360"/>
            <a:ext cx="834840" cy="417240"/>
          </a:xfrm>
          <a:prstGeom prst="rect">
            <a:avLst/>
          </a:prstGeom>
          <a:ln w="9525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85.10.197.38/can-mds/index.php" TargetMode="External"/><Relationship Id="rId3" Type="http://schemas.openxmlformats.org/officeDocument/2006/relationships/hyperlink" Target="http://www.can-via-mds.eu/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ploring the CAN-MDS: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a variable by variable review</a:t>
            </a:r>
            <a:endParaRPr b="0" lang="el-GR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7640" y="3886200"/>
            <a:ext cx="698436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8b8b8b"/>
                </a:solidFill>
                <a:latin typeface="Calibri"/>
              </a:rPr>
              <a:t>Core Group of CAN-MDS Operators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43920"/>
            <a:ext cx="18432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l-GR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5843880" y="21240"/>
            <a:ext cx="3299760" cy="575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141480" y="74520"/>
            <a:ext cx="6590160" cy="45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gency FB"/>
                <a:ea typeface="Times New Roman"/>
              </a:rPr>
              <a:t>Daphne Project “Coordinated Response to Child Abuse &amp; Neglect via Minimum Data Set” [JUST/2012/DAP/AG/325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"/>
          <p:cNvPicPr/>
          <p:nvPr/>
        </p:nvPicPr>
        <p:blipFill>
          <a:blip r:embed="rId2"/>
          <a:stretch/>
        </p:blipFill>
        <p:spPr>
          <a:xfrm>
            <a:off x="6535440" y="6327360"/>
            <a:ext cx="1079640" cy="539640"/>
          </a:xfrm>
          <a:prstGeom prst="rect">
            <a:avLst/>
          </a:prstGeom>
          <a:ln w="9525">
            <a:noFill/>
          </a:ln>
        </p:spPr>
      </p:pic>
      <p:pic>
        <p:nvPicPr>
          <p:cNvPr id="96" name="Picture 24" descr=""/>
          <p:cNvPicPr/>
          <p:nvPr/>
        </p:nvPicPr>
        <p:blipFill>
          <a:blip r:embed="rId3"/>
          <a:stretch/>
        </p:blipFill>
        <p:spPr>
          <a:xfrm>
            <a:off x="8524440" y="6402240"/>
            <a:ext cx="583920" cy="390240"/>
          </a:xfrm>
          <a:prstGeom prst="rect">
            <a:avLst/>
          </a:prstGeom>
          <a:ln w="9525">
            <a:noFill/>
          </a:ln>
        </p:spPr>
      </p:pic>
      <p:sp>
        <p:nvSpPr>
          <p:cNvPr id="97" name="Text Box 42"/>
          <p:cNvSpPr/>
          <p:nvPr/>
        </p:nvSpPr>
        <p:spPr>
          <a:xfrm>
            <a:off x="7410240" y="6402240"/>
            <a:ext cx="1091880" cy="4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ith financial support from the EU DAPHNE Program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12"/>
          <p:cNvSpPr/>
          <p:nvPr/>
        </p:nvSpPr>
        <p:spPr>
          <a:xfrm>
            <a:off x="179640" y="6021360"/>
            <a:ext cx="1151640" cy="692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19"/>
          <p:cNvSpPr/>
          <p:nvPr/>
        </p:nvSpPr>
        <p:spPr>
          <a:xfrm>
            <a:off x="7164360" y="692640"/>
            <a:ext cx="1728000" cy="692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Place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Date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52360" y="44640"/>
            <a:ext cx="7272360" cy="94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24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CAN-MDS</a:t>
            </a:r>
            <a:r>
              <a:rPr b="1" lang="el-GR" sz="24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 </a:t>
            </a:r>
            <a:r>
              <a:rPr b="1" lang="en-US" sz="24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axes</a:t>
            </a:r>
            <a:r>
              <a:rPr b="1" lang="el-GR" sz="24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 &amp; </a:t>
            </a:r>
            <a:r>
              <a:rPr b="1" lang="en-US" sz="24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data elements</a:t>
            </a:r>
            <a:endParaRPr b="0" lang="el-GR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51640" y="811440"/>
            <a:ext cx="8819640" cy="5481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640" y="327960"/>
            <a:ext cx="864072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e-CAN-MDS</a:t>
            </a:r>
            <a:endParaRPr b="0" lang="el-GR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10933" r="0" b="21165"/>
          <a:stretch/>
        </p:blipFill>
        <p:spPr>
          <a:xfrm>
            <a:off x="103320" y="1484640"/>
            <a:ext cx="8860680" cy="3384000"/>
          </a:xfrm>
          <a:prstGeom prst="rect">
            <a:avLst/>
          </a:prstGeom>
          <a:ln w="9525">
            <a:noFill/>
          </a:ln>
        </p:spPr>
      </p:pic>
      <p:sp>
        <p:nvSpPr>
          <p:cNvPr id="104" name="Title 1"/>
          <p:cNvSpPr/>
          <p:nvPr/>
        </p:nvSpPr>
        <p:spPr>
          <a:xfrm>
            <a:off x="251640" y="5229360"/>
            <a:ext cx="86407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24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Online: </a:t>
            </a:r>
            <a:r>
              <a:rPr b="1" lang="en-US" sz="2400" spc="49" strike="noStrike" u="sng">
                <a:solidFill>
                  <a:schemeClr val="accent1">
                    <a:lumMod val="75000"/>
                  </a:schemeClr>
                </a:solidFill>
                <a:uFillTx/>
                <a:latin typeface="Tahoma"/>
                <a:hlinkClick r:id="rId2"/>
              </a:rPr>
              <a:t>http://85.10.197.38/can-mds/index.php</a:t>
            </a:r>
            <a:r>
              <a:rPr b="1" lang="en-US" sz="24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49" strike="noStrike">
                <a:solidFill>
                  <a:schemeClr val="accent1">
                    <a:lumMod val="75000"/>
                  </a:schemeClr>
                </a:solidFill>
                <a:latin typeface="Tahoma"/>
                <a:hlinkClick r:id="rId3"/>
              </a:rPr>
              <a:t>www.can-via-mds.eu</a:t>
            </a:r>
            <a:r>
              <a:rPr b="1" lang="en-US" sz="2400" spc="49" strike="noStrike">
                <a:solidFill>
                  <a:schemeClr val="accent1">
                    <a:lumMod val="75000"/>
                  </a:schemeClr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  <Words>246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46:23Z</dcterms:created>
  <dc:creator>ich</dc:creator>
  <dc:description/>
  <dc:language>en-US</dc:language>
  <cp:lastModifiedBy> </cp:lastModifiedBy>
  <dcterms:modified xsi:type="dcterms:W3CDTF">2015-08-14T10:38:56Z</dcterms:modified>
  <cp:revision>2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3</vt:r8>
  </property>
</Properties>
</file>